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632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3419640" y="30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2" descr="SciDAC-logo"/>
          <p:cNvPicPr/>
          <p:nvPr/>
        </p:nvPicPr>
        <p:blipFill>
          <a:blip r:embed="rId3"/>
          <a:stretch/>
        </p:blipFill>
        <p:spPr>
          <a:xfrm>
            <a:off x="6934320" y="6141960"/>
            <a:ext cx="2152440" cy="649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289548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" descr="DOE-OS-logo"/>
          <p:cNvPicPr/>
          <p:nvPr/>
        </p:nvPicPr>
        <p:blipFill>
          <a:blip r:embed="rId4"/>
          <a:stretch/>
        </p:blipFill>
        <p:spPr>
          <a:xfrm>
            <a:off x="76320" y="6153120"/>
            <a:ext cx="3352680" cy="628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b5b1a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5b1ab"/>
                </a:solidFill>
                <a:latin typeface="Times New Roman"/>
              </a:rPr>
              <a:t>www.vace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0" y="1930320"/>
          <a:ext cx="9144000" cy="492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30320"/>
                    <a:ext cx="9144000" cy="49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257480" y="43434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er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2057400"/>
            <a:ext cx="70866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ool Ti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VACET_Logo-Background" descr="file:///C:/LBLDesk/VACET_Logo-Background.jpg"/>
          <p:cNvPicPr/>
          <p:nvPr/>
        </p:nvPicPr>
        <p:blipFill>
          <a:blip r:embed="rId3"/>
          <a:stretch/>
        </p:blipFill>
        <p:spPr>
          <a:xfrm>
            <a:off x="0" y="0"/>
            <a:ext cx="9144000" cy="18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81120"/>
            <a:ext cx="7772400" cy="84744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lIns="94680" rIns="94680" tIns="51480" bIns="514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7T15:38:55Z</dcterms:created>
  <dc:creator>Wes Bethel</dc:creator>
  <dc:description/>
  <dc:language>en-US</dc:language>
  <cp:lastModifiedBy>Sysadmin</cp:lastModifiedBy>
  <dcterms:modified xsi:type="dcterms:W3CDTF">2009-03-31T19:42:05Z</dcterms:modified>
  <cp:revision>132</cp:revision>
  <dc:subject/>
  <dc:title>PowerPoint Presentation</dc:title>
</cp:coreProperties>
</file>